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ED5-AB25-4E11-88A2-82B5AD2C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4B8-8D51-4E3E-AB84-3566A4C1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513-FA05-4FB0-87FF-AAFE915C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186-EA6B-437A-95F9-CA50506B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461-B0D6-4C9A-9AD1-F447B15A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1DD-27F2-4B45-9374-090511A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C38-588D-4337-B6FE-6068A578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044-EA6E-489A-B6E4-C2A20B1A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201-4876-417B-BF10-7829A919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89D-C88A-42E0-B4F8-AE3AFC9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914-9F98-4EEA-BE14-63CF24F4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B5D-36F9-4A8D-B8D2-1550BF3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54DF8-A738-4F69-BD46-E3270331A5B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ERTIVENES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W CAN IT HELP 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HAT DO I NEED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 RIGHTS A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 HAVE POSITIVE, HEALTHY, SATISFYING RELATIONSHIPS IN WHICH I AM SAFE AND RES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 CHANGE AND DEVELOP MY LIFE HOW I DETER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 BE HAPPY AND AT PE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ER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ESN’T JUST HA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1720" indent="-531720"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ES NOT GUARANTEE YOU HAPPINESS OR FAIR TREA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1720" indent="-531720"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LL NOT SOLVE ALL YOU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1720" indent="-531720"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ES NOT GUARANTEEE YOU WILL GET WHAT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648320" y="2176560"/>
            <a:ext cx="3809880" cy="37242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l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 For Entertai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hting For Leader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ert Survival K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ER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sertiveness is the ability to communicate your needs, feelings, opinions, and beliefs in an open and honest manner without violating the rights of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5011560" y="1981080"/>
            <a:ext cx="3081600" cy="4114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R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S NOT THE SAME AS AGGRESSIV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GRESSIVE BEHAVIOR ENHANCES SELF AT THE EXPENSE OF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ERTIVENESS PRODUCES POSITIVE OUTCOMES FOR ALL; AGGRESSIVE ACTS RESULT IN NEGATIVE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ILL IT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6320" indent="-526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LPS YOU BECOME SELF-CONF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6320" indent="-526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CREASES SELF-E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6320" indent="-526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IN RESPECT OF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6320" indent="-526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PROVE COMMUNICATION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6320" indent="-526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PROVE DECISION-MAKING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648320" y="251316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O BE ASSER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 HONEST AND DIRECT ABOUT YOUR FEELINGS, NEEDS, BELIE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RESS YOURSELF FIRMLY AND DIRECTLY TO SPECIFIC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 REASONABLE IN YOUR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wipe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O BE ASSER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TE YOUR VIEWPOINT WITHOUT BEING HESITANT OR APOLOGE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 HONEST WHEN GIVING OR RECEIVING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ARN TO SAY “NO” TO UNREASONABLE EXPEC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APHRASE WHAT OTHERS HAVE STATED TO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BE ASSER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GOGNIZE AND RESPECT THE RIGHTS OF THOSE AROUND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SE APPROPRIATE TONE OF V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 AWARE OF BODY POSTURE/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INTAIN EYE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SE “I” STATEMENTS TO EXPRESS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O BE ASSER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N’T LET OTHERS IMPOSE THEIR VALUES/IDEAS O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1720" indent="-531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COURAGE OTHERS TO BE CLEAR AND 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1720" indent="-531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AKE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648320" y="3121200"/>
            <a:ext cx="3809880" cy="18334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 RIGHTS A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right to respect myself because of who I 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w to lead my life…pursuing goals, dream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ave my own values, belief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 tell others how I wish to be t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 change my mind and make mistakes without being ridicu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4:39:24Z</dcterms:created>
  <dc:creator>helpdesk</dc:creator>
  <dc:description/>
  <dc:language>en-US</dc:language>
  <cp:lastModifiedBy>Bright</cp:lastModifiedBy>
  <dcterms:modified xsi:type="dcterms:W3CDTF">2013-08-22T10:23:29Z</dcterms:modified>
  <cp:revision>5</cp:revision>
  <dc:subject/>
  <dc:title>ASSERTIVENESS</dc:title>
</cp:coreProperties>
</file>